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bomb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1DA3-6261-4F1F-8B33-58B5473A4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95A9-A228-4241-B280-E8BBF616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6E7C-D9A3-42EC-A175-43FD10105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3E2E-4327-4CCD-A05E-75242DEC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DB86-C573-4B94-8810-8910CD65E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4094-3057-40BA-844C-55679100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24BA-DF60-4913-986B-B748E377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14F8-7772-4108-BDCD-D77419DC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D296-7B4D-4E6C-86B9-AB5688C3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5927-1BAB-41D6-92F6-9E18DD10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CA5A-1054-47F4-989B-56890C26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49D1-3E29-4E27-973D-94866960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41DA-7B53-4A17-8B8C-CE01EB71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4920-9BA5-4D54-8EEC-1C2F6036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2C3D-CA62-4536-ACEE-6CD85181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85F1-8B8C-43B0-9803-29E0B7EA0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B587-1C4A-4F83-9125-4138F764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75EF-B553-45AD-B2DE-979020A2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F867-9752-425C-B95C-DF3BB1AD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23B8-92B3-4A48-A0CF-F46C8BE2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3468-4613-4BD1-AF87-F6A1F00D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F47F-D932-4174-9AE6-BA74ABAD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198E-5B2D-4BF8-8451-DD9E6A68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2BC6-A2B2-463F-87CE-258C2A55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946B-B5EC-4E0B-B39A-5C2A070E5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0BFD-CA45-4577-B2BF-DF3A6C0C6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omic Sans MS"/>
              </a:rPr>
              <a:t>Descriptive Writing</a:t>
            </a:r>
            <a:endParaRPr b="0" lang="en-US" sz="5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809880"/>
            <a:ext cx="6032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Jester"/>
              </a:rPr>
              <a:t>Purpose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Jester"/>
              </a:rPr>
              <a:t>Describe a single SNAPSHOT moment from your lif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6870600" cy="495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sha"/>
                <a:ea typeface="Gisha"/>
              </a:rPr>
              <a:t>1) Silently read today’s mentor tex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sha"/>
                <a:ea typeface="Gisha"/>
              </a:rPr>
              <a:t>all the way through.  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sha"/>
                <a:ea typeface="Gisha"/>
              </a:rPr>
              <a:t>2) At the top of your left-hand page where you glued this text, writ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sha"/>
                <a:ea typeface="Gisha"/>
              </a:rPr>
              <a:t>TELL Statement</a:t>
            </a:r>
            <a:r>
              <a:rPr b="0" lang="en-US" sz="3200" spc="-1" strike="noStrike">
                <a:solidFill>
                  <a:srgbClr val="000000"/>
                </a:solidFill>
                <a:latin typeface="Gisha"/>
                <a:ea typeface="Gisha"/>
              </a:rPr>
              <a:t> summing up what the text is mostly about. (date, title, table of content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94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sha"/>
                <a:ea typeface="Gisha"/>
              </a:rPr>
              <a:t>3) Read the text a second time and annotate your thoughts or in other words, “talk to the text” about what made the author’s description of the moment colorful and alive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579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sha"/>
                <a:ea typeface="Gisha"/>
              </a:rPr>
              <a:t>2) Now…choose a moment from your positive+/-negative li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sha"/>
                <a:ea typeface="Gisha"/>
              </a:rPr>
              <a:t>or your heart map and on the right-hand page, start by writing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sha"/>
                <a:ea typeface="Gisha"/>
              </a:rPr>
              <a:t>TELL Statement</a:t>
            </a:r>
            <a:r>
              <a:rPr b="0" lang="en-US" sz="3200" spc="-1" strike="noStrike">
                <a:solidFill>
                  <a:srgbClr val="000000"/>
                </a:solidFill>
                <a:latin typeface="Gisha"/>
                <a:ea typeface="Gisha"/>
              </a:rPr>
              <a:t> at the top. 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Gisha"/>
                <a:ea typeface="Gisha"/>
              </a:rPr>
              <a:t>One day I broke my arm and it hurt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ow…write a rough draf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23520" y="2361960"/>
            <a:ext cx="6032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sha"/>
                <a:ea typeface="Gisha"/>
              </a:rPr>
              <a:t>Create a new word document and title i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sha"/>
                <a:ea typeface="Gish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sha"/>
                <a:ea typeface="Gisha"/>
              </a:rPr>
              <a:t>firstnamelastintial – snapshot momen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sha"/>
                <a:ea typeface="Gisha"/>
              </a:rPr>
              <a:t>It would be a good idea to use 1.5 or 2 spaces between line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pload to wiki with your posting comments 6 minutes before the bell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omic Sans MS"/>
              </a:rPr>
              <a:t>Descriptive Writing</a:t>
            </a:r>
            <a:endParaRPr b="0" lang="en-US" sz="5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morrow we will begin editing and revis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19:19:23Z</dcterms:created>
  <dc:creator>Tammy</dc:creator>
  <dc:description/>
  <dc:language>en-US</dc:language>
  <cp:lastModifiedBy>Tammy</cp:lastModifiedBy>
  <dcterms:modified xsi:type="dcterms:W3CDTF">2010-09-16T11:12:29Z</dcterms:modified>
  <cp:revision>30</cp:revision>
  <dc:subject/>
  <dc:title>Modes of Writing</dc:title>
</cp:coreProperties>
</file>